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353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68680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1B6C-80A1-4A33-A4D6-01A026F8481E}" type="slidenum"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3200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LTP DW </a:t>
            </a:r>
            <a:br>
              <a:rPr sz="4400"/>
            </a:b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 (On Line Transaction Processing Data Warehouse) </a:t>
            </a:r>
            <a:br>
              <a:rPr sz="4400"/>
            </a:br>
            <a:r>
              <a:rPr b="0" i="1" lang="en-US" sz="4400" spc="-1" strike="noStrike" u="sng">
                <a:solidFill>
                  <a:srgbClr val="8cf4ea"/>
                </a:solidFill>
                <a:uFillTx/>
                <a:latin typeface="Times New Roman"/>
              </a:rPr>
              <a:t>Informační prostor veřejné správy a technologie jeho konstrukc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520" y="4724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g. Petr Vršek - SOFT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sek@softmodel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softmodel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00520" y="495288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27428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Ing. Petr Vršek - SOFT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sek@softmodel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afd00"/>
                </a:solidFill>
                <a:latin typeface="Times New Roman"/>
              </a:rPr>
              <a:t>příspěvky ze seminářů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www.softmodel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0520" y="4952880"/>
            <a:ext cx="35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ojmenování obecných problémů 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mpetenční a koncepční spory mezi státní správou a samosprávou - resort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ers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raje (obc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koordinované resortní pohledy na informatiku veřejné správ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docenění informačních potřeb obcí a krajů (samosprávné záležitost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ec / kraj slouží z pohledu státu pouze k výkonu státní moci prostřednictvím nesourodých resortních informačních systémů obsahujících vzájemně nekonsolidované úda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ojmenování technických problémů 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resortech se vytváří nezávislé databáze (registry) obsahující jak číselníky (dimenze), tak  konkrétní údaje (fakt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rtní i samosprávné databáze používají vzájemně nekoordinovaných číselní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ní běžně používán konsolidovaný číselník (dimenze) subjek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ářejí se nejrůznější centrální registry jako konglomeráty velkého množství údajů, které jsou zastaralé, nekoordinované a duplicit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ecná idea řešení těchto problémů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aj (obec) musí vykonávat přenesenou působnost koordinovaně se samosprávnými záležitostmi v rámci svého integrovaného informačního systému, ke kterému se může přes Internet připojit jak občan, tak referent, tak zastupit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v tomto systému musí být konsolidovaná, aktuální, správná a chráněn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753320" cy="144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becná idea řešení těchto problémů (pokračování)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, který si nechá vystavit u své obce (kraje) - registrační autority - příslušný certifikát, vyřídí své veškeré záležitosti na dálku a bude mu zajištěna integrita, aktuálnost, správnost a ochrana jeho osobních d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rty musí poskytovat internetové služby pro integrované informační systémy krajů / obcí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etodicko-technické řešení  problémů 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lostátně  je vhodné udržovat na centrálních dimenzionálních serverech pouze klíčové dimenz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ubjek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storový prve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 minimálním množstvím fak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krétní údaje (fakty) by měly být ukládány v předmětných databázích obecních a krajských informačních systémů, ale i v nezávislých databázích oprávněných subjek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enzionální servery musí být obklopeny bezpečnostní a komunikační vrstvou a být přístupné přes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E"/>
              </a:rPr>
              <a:t>OLTP DW - fakty závislé n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CE"/>
              </a:rPr>
              <a:t>jedné dimen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791320"/>
            <a:ext cx="6476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133720" y="837720"/>
            <a:ext cx="0" cy="49532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5638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5638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267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5867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E"/>
              </a:rPr>
              <a:t>subjekty (F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78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438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E"/>
              </a:rPr>
              <a:t>prostorové prvky (adresní mís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23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1447920"/>
            <a:ext cx="4267080" cy="825480"/>
          </a:xfrm>
          <a:prstGeom prst="borderCallout1">
            <a:avLst>
              <a:gd name="adj1" fmla="val 18750"/>
              <a:gd name="adj2" fmla="val -8333"/>
              <a:gd name="adj3" fmla="val 107453"/>
              <a:gd name="adj4" fmla="val -2990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Katastr „Nové Město“, č.p. 456 (Praha 1, Vodičkova 1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617920"/>
            <a:ext cx="3733920" cy="459720"/>
          </a:xfrm>
          <a:prstGeom prst="borderCallout1">
            <a:avLst>
              <a:gd name="adj1" fmla="val 18750"/>
              <a:gd name="adj2" fmla="val -8333"/>
              <a:gd name="adj3" fmla="val 326916"/>
              <a:gd name="adj4" fmla="val -3481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Část obce „Písty“, č.p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3600" y="3581280"/>
            <a:ext cx="1074960" cy="459720"/>
          </a:xfrm>
          <a:prstGeom prst="borderCallout1">
            <a:avLst>
              <a:gd name="adj1" fmla="val 18750"/>
              <a:gd name="adj2" fmla="val -8333"/>
              <a:gd name="adj3" fmla="val 431532"/>
              <a:gd name="adj4" fmla="val -4237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Kar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3657600"/>
            <a:ext cx="1074600" cy="459720"/>
          </a:xfrm>
          <a:prstGeom prst="borderCallout1">
            <a:avLst>
              <a:gd name="adj1" fmla="val 18750"/>
              <a:gd name="adj2" fmla="val -8333"/>
              <a:gd name="adj3" fmla="val 401092"/>
              <a:gd name="adj4" fmla="val -9731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Václ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43400"/>
            <a:ext cx="1074960" cy="459720"/>
          </a:xfrm>
          <a:prstGeom prst="borderCallout1">
            <a:avLst>
              <a:gd name="adj1" fmla="val 18750"/>
              <a:gd name="adj2" fmla="val -8333"/>
              <a:gd name="adj3" fmla="val 273393"/>
              <a:gd name="adj4" fmla="val -75458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Šmí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294080"/>
            <a:ext cx="1295280" cy="459720"/>
          </a:xfrm>
          <a:prstGeom prst="borderCallout1">
            <a:avLst>
              <a:gd name="adj1" fmla="val 18750"/>
              <a:gd name="adj2" fmla="val -8333"/>
              <a:gd name="adj3" fmla="val 294444"/>
              <a:gd name="adj4" fmla="val -115305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Koutn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E"/>
              </a:rPr>
              <a:t>OLTP DW - fakty závislé n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 CE"/>
              </a:rPr>
              <a:t>více dimenz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5791320"/>
            <a:ext cx="64767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133720" y="837720"/>
            <a:ext cx="0" cy="49532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638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5638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42670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867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E"/>
              </a:rPr>
              <a:t>subjekty (F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6019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78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438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6094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CE"/>
              </a:rPr>
              <a:t>prostorové prvky (adresní mís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234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1308240"/>
            <a:ext cx="2057400" cy="825480"/>
          </a:xfrm>
          <a:prstGeom prst="borderCallout1">
            <a:avLst>
              <a:gd name="adj1" fmla="val 18750"/>
              <a:gd name="adj2" fmla="val -8333"/>
              <a:gd name="adj3" fmla="val 124759"/>
              <a:gd name="adj4" fmla="val -205157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adresa bydliště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 CE"/>
              </a:rPr>
              <a:t>vazební fakt</a:t>
            </a: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514600"/>
            <a:ext cx="2057400" cy="825480"/>
          </a:xfrm>
          <a:prstGeom prst="borderCallout1">
            <a:avLst>
              <a:gd name="adj1" fmla="val 18750"/>
              <a:gd name="adj2" fmla="val -8333"/>
              <a:gd name="adj3" fmla="val -4356"/>
              <a:gd name="adj4" fmla="val -127462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adresa bydliště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 CE"/>
              </a:rPr>
              <a:t>vazební fakt</a:t>
            </a: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352680"/>
            <a:ext cx="2133720" cy="1191240"/>
          </a:xfrm>
          <a:prstGeom prst="borderCallout1">
            <a:avLst>
              <a:gd name="adj1" fmla="val 18750"/>
              <a:gd name="adj2" fmla="val -8333"/>
              <a:gd name="adj3" fmla="val 66250"/>
              <a:gd name="adj4" fmla="val -26328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korespondenční adresa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 CE"/>
              </a:rPr>
              <a:t>vazební fakt</a:t>
            </a: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095880" y="2209680"/>
            <a:ext cx="2362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14800" y="3429000"/>
            <a:ext cx="220968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572000"/>
            <a:ext cx="2286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E"/>
              </a:rPr>
              <a:t>BCDM - Bitemporal Conceptual Data Model  (viz TSQL2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6248520"/>
            <a:ext cx="739152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95280" y="837720"/>
            <a:ext cx="0" cy="54104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6400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E"/>
              </a:rPr>
              <a:t>Transactio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685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 CE"/>
              </a:rPr>
              <a:t>Validity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609480"/>
            <a:ext cx="1371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Příkl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 CE"/>
              </a:rPr>
              <a:t>Vývoj evidence příjmení jed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828800" y="15238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191120" y="15238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1523880"/>
            <a:ext cx="0" cy="472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562720"/>
            <a:ext cx="17524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Nováčk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590920"/>
            <a:ext cx="1752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Lišk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809880"/>
            <a:ext cx="175284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Frýd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562720"/>
            <a:ext cx="17524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Novak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0292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352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3124080"/>
            <a:ext cx="2286000" cy="45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Kocourk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8862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2819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191120"/>
            <a:ext cx="175248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Frýd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057400"/>
            <a:ext cx="1752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CE"/>
              </a:rPr>
              <a:t>Lišk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50292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4T19:16:58Z</dcterms:created>
  <dc:creator/>
  <dc:description/>
  <dc:language>en-US</dc:language>
  <cp:lastModifiedBy>Ing. Petr Vrsek</cp:lastModifiedBy>
  <cp:lastPrinted>2001-05-09T23:04:43Z</cp:lastPrinted>
  <dcterms:modified xsi:type="dcterms:W3CDTF">2001-05-09T23:11:08Z</dcterms:modified>
  <cp:revision>186</cp:revision>
  <dc:subject/>
  <dc:title>Softmodel Case</dc:title>
</cp:coreProperties>
</file>